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906-7006-41CD-8BDD-C15978CC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B04-047B-4BB8-822F-6652A20F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156-913B-4A81-8523-615FBF9F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ED9-E5D2-4358-B7F8-9A657FB9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015-5AC6-4A21-BAA9-ED05CD9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4D6-4A44-4905-8955-736AC97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D83-ACBD-4F0A-8DBA-65B37931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5B1-1A31-4C26-904E-81CAB82B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FF1-9216-4B40-9D29-5FAE63E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433-69E9-455B-8DE9-C10D797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8A8-F0C3-4EA9-8D83-696E5CD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879-B743-4E58-8080-AC9828C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46B5-9DFB-4CC2-B670-59FE77B184C1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443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M.S Data Provider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 D.Pr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4520" y="357840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560" y="2971800"/>
              <a:ext cx="17384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1620720"/>
            <a:ext cx="4799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Notify/ Update ship departu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application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 Notify / Update 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2995560"/>
            <a:ext cx="414000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203640" y="2384280"/>
            <a:ext cx="4140000" cy="397080"/>
            <a:chOff x="3203640" y="2384280"/>
            <a:chExt cx="4140000" cy="397080"/>
          </a:xfrm>
        </p:grpSpPr>
        <p:sp>
          <p:nvSpPr>
            <p:cNvPr id="66" name=""/>
            <p:cNvSpPr/>
            <p:nvPr/>
          </p:nvSpPr>
          <p:spPr>
            <a:xfrm>
              <a:off x="3203640" y="2384280"/>
              <a:ext cx="4140000" cy="395280"/>
            </a:xfrm>
            <a:prstGeom prst="flowChartAlternateProcess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3640" y="2504880"/>
              <a:ext cx="36367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tep 1: Select vess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203640" y="3116160"/>
            <a:ext cx="4464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ep 2: Insert/ Update departure inform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70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 application&gt; Notify/ Update departure information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 &gt; Step 1: Select Shi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88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87520" y="3564000"/>
            <a:ext cx="7966080" cy="1608480"/>
            <a:chOff x="587520" y="3564000"/>
            <a:chExt cx="7966080" cy="1608480"/>
          </a:xfrm>
        </p:grpSpPr>
        <p:sp>
          <p:nvSpPr>
            <p:cNvPr id="93" name=""/>
            <p:cNvSpPr/>
            <p:nvPr/>
          </p:nvSpPr>
          <p:spPr>
            <a:xfrm>
              <a:off x="587520" y="35640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89520" y="35640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03840" y="35640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83400" y="35640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75400" y="35640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02400" y="35640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10680" y="35640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82320" y="35640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7520" y="39607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  </a:t>
              </a:r>
              <a:r>
                <a:rPr b="1" lang="en-US" sz="1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89520" y="39607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03840" y="39607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83400" y="39607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75400" y="39607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02400" y="396072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/7/2009 15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10680" y="396072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82320" y="39607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7520" y="43671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89520" y="43671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03840" y="43671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83400" y="43671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75400" y="43671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02400" y="43671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0680" y="436716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2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2320" y="43671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7520" y="47736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76560" y="47736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91240" y="47736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70440" y="47736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2800" y="47736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89800" y="47736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97720" y="47736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69360" y="47736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4760" y="1363680"/>
            <a:ext cx="8364600" cy="5305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departure inform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760" y="1089000"/>
            <a:ext cx="8269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. application&gt;Notify/update ship departure&gt;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Step 2: Insert/ Update departure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132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US III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2612880"/>
            <a:ext cx="8143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HKHKG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0/5/2009 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93920" y="284796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2600280"/>
            <a:ext cx="15145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2/6/2009 08:0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2857680"/>
            <a:ext cx="15145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7/6/2009 19: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2647800"/>
            <a:ext cx="7920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BRE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4/6/2009 09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3102120"/>
            <a:ext cx="45370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200" y="3365640"/>
            <a:ext cx="76611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8685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A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74840" y="3868560"/>
            <a:ext cx="159372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9/6/2009 22: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6520" y="3538440"/>
            <a:ext cx="6581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parture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8480" y="63025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88200" y="374652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6040" y="595008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83400" y="378288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508640"/>
            <a:ext cx="4032000" cy="118872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8880" y="4616280"/>
            <a:ext cx="28191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sert/ Update 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departing from a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2040" y="5302080"/>
            <a:ext cx="26859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sert/ update  Hazmat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73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516480" y="231300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313000"/>
            <a:ext cx="201600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37160" y="6348240"/>
            <a:ext cx="851040" cy="200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42040" y="5289480"/>
            <a:ext cx="2714400" cy="28584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395800">
            <a:off x="7465320" y="4508280"/>
            <a:ext cx="738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Wingdings"/>
                <a:ea typeface="Wingdings"/>
              </a:rPr>
              <a:t>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640224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remove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-0.01962 0.03149 E">
                                      <p:cBhvr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4760" y="1363680"/>
            <a:ext cx="8364600" cy="5450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Hazmat inform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7440" y="1089000"/>
            <a:ext cx="87692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Verdana"/>
              </a:rPr>
              <a:t>&gt;M.S D.Pr application&gt; Notify/ Update departure </a:t>
            </a:r>
            <a:r>
              <a:rPr b="1" lang="en-GB" sz="1000" spc="-1" strike="noStrike">
                <a:solidFill>
                  <a:srgbClr val="ff9933"/>
                </a:solidFill>
                <a:latin typeface="Verdana"/>
              </a:rPr>
              <a:t>&gt; Step 2: Insert/update departure data &gt; Insert/ Update Hazma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4760" y="2600280"/>
            <a:ext cx="2325600" cy="246240"/>
            <a:chOff x="374760" y="2600280"/>
            <a:chExt cx="2325600" cy="246240"/>
          </a:xfrm>
        </p:grpSpPr>
        <p:sp>
          <p:nvSpPr>
            <p:cNvPr id="188" name=""/>
            <p:cNvSpPr/>
            <p:nvPr/>
          </p:nvSpPr>
          <p:spPr>
            <a:xfrm>
              <a:off x="374760" y="2600280"/>
              <a:ext cx="1511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ast Port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6040" y="2631960"/>
              <a:ext cx="814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86040" y="2612880"/>
              <a:ext cx="6699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HKHKG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0/5/2009 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93920" y="287640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2631960"/>
            <a:ext cx="15145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2876400"/>
            <a:ext cx="151452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637000"/>
            <a:ext cx="15145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2/6/2009 08:0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2887560"/>
            <a:ext cx="15145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9/6/2009 22:2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99240" y="2620800"/>
            <a:ext cx="91584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EBRE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8600" y="2876400"/>
            <a:ext cx="14526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10400" y="2865600"/>
            <a:ext cx="1461960" cy="231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6/6/2009 0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200" y="3365640"/>
            <a:ext cx="7661160" cy="28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8960" y="4422600"/>
            <a:ext cx="1601640" cy="70308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assification of dangerous goods per IMO (multiple entry possible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868560"/>
            <a:ext cx="158904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azmat in board?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74840" y="43624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D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74840" y="3859200"/>
            <a:ext cx="673200" cy="24624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6320" y="3416400"/>
            <a:ext cx="65818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departing from a EU port 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64320" y="63025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88200" y="3416400"/>
            <a:ext cx="517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10800000">
            <a:off x="7488360" y="6301800"/>
            <a:ext cx="706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32320" y="5722920"/>
            <a:ext cx="67284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64160" y="34164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74840" y="461628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4840" y="487044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74840" y="512460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74840" y="5386320"/>
            <a:ext cx="1960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other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56000" y="3716280"/>
            <a:ext cx="3605400" cy="194616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65800" y="5124600"/>
            <a:ext cx="3419280" cy="45216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41760" y="5180040"/>
            <a:ext cx="3419640" cy="3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2):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Provide URL  of cargo manifest or the contact details of the Cargo Manifest provide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1160" y="3800520"/>
            <a:ext cx="3463920" cy="1212840"/>
          </a:xfrm>
          <a:prstGeom prst="flowChartAlternateProcess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25920" y="4044960"/>
            <a:ext cx="3264120" cy="50472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25920" y="4000680"/>
            <a:ext cx="3187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a. Provide URL of the HAZMAT declaration document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Verdana"/>
              </a:rPr>
              <a:t>o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contact details of the data provider of Hazmat declaration detai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41760" y="4616280"/>
            <a:ext cx="3264120" cy="24480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41760" y="4616280"/>
            <a:ext cx="3187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b. Provide Hazmat declaration detai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235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535640" y="3800520"/>
            <a:ext cx="36367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tep (1):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[Choice (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(1a) or (1b)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)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240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US III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886040" y="2335320"/>
            <a:ext cx="17492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02040" y="235584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arrival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2335320"/>
            <a:ext cx="17575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departure info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732640"/>
            <a:ext cx="28101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 (upon departur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630252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74840" y="4362480"/>
            <a:ext cx="1960560" cy="1299960"/>
          </a:xfrm>
          <a:prstGeom prst="rect">
            <a:avLst/>
          </a:prstGeom>
          <a:noFill/>
          <a:ln w="22320">
            <a:solidFill>
              <a:srgbClr val="00ff00"/>
            </a:solidFill>
            <a:prstDash val="sysDot"/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4-15T16:51:32Z</dcterms:modified>
  <cp:revision>380</cp:revision>
  <dc:subject/>
  <dc:title>Slide 1</dc:title>
</cp:coreProperties>
</file>